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BD12-BE91-4795-BEF5-D08987EA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A103-FC24-45E4-A908-7C3589B3F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6498-B085-4222-AC00-1A7E040B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8FB-CBF5-4AAB-B159-AC577A4C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B4A-56B2-4260-AA15-32B512C8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C57-5265-4248-855F-870C8DA7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D85-A999-4212-994B-110192AC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DB5-27AD-49B3-BD41-4C0F15DD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9CD-53F5-498F-9242-91AE53A9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0F0-C0DD-4108-A5BC-A70A65BD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48F-ECB2-4BC7-9927-A7C37617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110-DFAB-473B-B572-78BD68D7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5D1-971C-4A3C-964B-3ED31C49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A1F-E65C-4C87-B3C9-643CB456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391-72C3-4C9D-BC8A-A017004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E013-E4C8-461E-ABBC-E8364680D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Yo soy Rita. Yo vivo en New York. Tengo catorce años. Yo tengo dos hermanos y una hermana. Estoy feliz y graciosa. Amo mi familia y mis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da. Gracias. ¿Tú quieres venir a mi casa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da. Y tú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está pasan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i.¿ Qué  haríamos nosotras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as debemos comer des pues de escuela y habl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Dónde es Ella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819520" y="19051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Yo soy Rita. Yo vivo en New York. Tengo catorce años. Yo tengo dos hermanos y una hermana. Estoy feliz y graciosa. Amo mi familia y  mis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2743200" y="3809880"/>
            <a:ext cx="34290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as tenemos la torta.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2819520" y="3124080"/>
            <a:ext cx="36576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stedes viven en la cuidad, es mejo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 casa esta en 21 ST.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Ustedes tienen las copas parra la fiesta.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o estas infirma.            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eres American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9:22Z</dcterms:modified>
  <cp:revision>115</cp:revision>
  <dc:subject/>
  <dc:title>Profile</dc:title>
</cp:coreProperties>
</file>